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C1D-A92D-4DAF-999C-3658B15A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743-0B13-4A43-A0C7-8639642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53-9606-422B-B457-BCE12673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925-0A7F-4FAE-87AC-0EA11AD6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EF53-FD8D-4AF8-B829-A2D402B5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C232-122C-49E6-AC79-6C3CC3AB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C410-E5C8-49C3-85AE-640537C8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04B2-8C07-4698-A549-754E2CE1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65BA-0420-4637-A98C-E2810EA8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B3DB-E06C-4EE2-B26F-A3923E6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77A-4D3E-46C9-813C-50623F0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65E-C8AF-4911-9B73-89B97B58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C6D7-A8A4-4FD0-8DB9-A7F2F56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EBF-FAF5-4E33-ABF7-284805E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767D-33EB-41CC-9424-70987516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52E-1E51-4E64-9112-3744E3C7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6ED5-75EC-44B2-90BF-30B8C3C2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6FE-FE73-42DE-AD3F-7AFB6BC1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B0C-8705-4897-892E-60103C01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9DA-0F14-4A8E-9177-DBF145A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E2E-26EB-4B54-921F-F216CA2C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D30-E445-4DD2-8F74-242BA7B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E05-4C55-4E52-81DB-CFF8D1A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078-027B-4AD2-AFA1-0E10800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D06E-FB42-42B7-9C71-E182D9660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57A-5265-49ED-B4A3-17F3A46CF5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мм</a:t>
            </a: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иак, соли а</a:t>
            </a: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мм</a:t>
            </a: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ония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Цель урок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Verdana"/>
              </a:rPr>
              <a:t>Знать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строение и свойства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ммиака и солей аммо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Verdana"/>
              </a:rPr>
              <a:t>Умет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составлять уравнения реакций, отражающие свойства этих веще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Verdana"/>
              </a:rPr>
              <a:t>Развивать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блюдательность, внимание, умение работать самостоятельно и в группе, умение анализиров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омашнее задание: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. 32 уч., стр. 245, работа 4. Записи уравнений в  тетрад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0000"/>
                </a:solidFill>
                <a:latin typeface="Verdana"/>
              </a:rPr>
              <a:t>Соли аммония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Твердые, бесцветные, кристаллические, хорошо растворимые в воде вещества,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при нагревании разлагаютс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391400" y="37846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H4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72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H4 N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5373720"/>
            <a:ext cx="26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)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 rot="10800000">
            <a:off x="3131640" y="3779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ff"/>
                </a:solidFill>
                <a:uFillTx/>
                <a:latin typeface="Verdana"/>
              </a:rPr>
              <a:t>хлорид амм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7440" y="457668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ff"/>
                </a:solidFill>
                <a:uFillTx/>
                <a:latin typeface="Verdana"/>
              </a:rPr>
              <a:t>нитрат аммония</a:t>
            </a:r>
            <a:r>
              <a:rPr b="0" lang="en-US" sz="2400" spc="-1" strike="noStrike">
                <a:solidFill>
                  <a:srgbClr val="9900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0000">
            <a:off x="3561840" y="5298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ff"/>
                </a:solidFill>
                <a:uFillTx/>
                <a:latin typeface="Verdana"/>
              </a:rPr>
              <a:t>сульфат амм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Химические свой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Соли аммония реагиру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с солям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312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 + Ag N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AgC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↓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N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395280" y="50832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N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HCl = 2N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 + C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755280" y="4503600"/>
            <a:ext cx="462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с кислот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Качественная реак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Verdana"/>
              </a:rPr>
              <a:t>Соли аммония разлагаются щелоча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2492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 + NaOH = NaCl +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NH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3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560" y="2997360"/>
            <a:ext cx="73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       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Запах нашаты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Особые свой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Соли аммония разлагаются при нагревании (т.е.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исчезают!</a:t>
            </a:r>
            <a:r>
              <a:rPr b="0" lang="en-US" sz="3000" spc="-1" strike="noStrike">
                <a:solidFill>
                  <a:srgbClr val="9900ff"/>
                </a:solidFill>
                <a:latin typeface="Verdana"/>
              </a:rPr>
              <a:t>)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34866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H4Cl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H3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HC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Аммиак: вид молекулы"/>
          <p:cNvPicPr/>
          <p:nvPr/>
        </p:nvPicPr>
        <p:blipFill>
          <a:blip r:embed="rId2"/>
          <a:stretch/>
        </p:blipFill>
        <p:spPr>
          <a:xfrm>
            <a:off x="5219640" y="3357720"/>
            <a:ext cx="2819520" cy="2371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6440" y="11242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Строение молекулы аммиака.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6800" y="3197880"/>
            <a:ext cx="68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Молекулярная формула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аммиака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800" spc="-1" strike="noStrike">
                <a:solidFill>
                  <a:srgbClr val="336699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Аммиак"/>
          <p:cNvPicPr/>
          <p:nvPr/>
        </p:nvPicPr>
        <p:blipFill>
          <a:blip r:embed="rId3"/>
          <a:stretch/>
        </p:blipFill>
        <p:spPr>
          <a:xfrm>
            <a:off x="3059280" y="4365720"/>
            <a:ext cx="144144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8000" y="49982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Электронная формул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47520" y="240588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Структурная формул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740720" y="2060640"/>
            <a:ext cx="666720" cy="1228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40280" y="580464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масштабная мод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molec.jpg (11700 bytes)"/>
          <p:cNvPicPr/>
          <p:nvPr/>
        </p:nvPicPr>
        <p:blipFill>
          <a:blip r:embed="rId2"/>
          <a:stretch/>
        </p:blipFill>
        <p:spPr>
          <a:xfrm>
            <a:off x="5364000" y="260280"/>
            <a:ext cx="3600720" cy="319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37882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Атом азота связан с атомами водорода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ковалентной полярной связью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. Общие электронные пары частично смещены к атому азота, поэтому молекула аммиака полярная. При этом у атома азота остаётся неподеленная электронная пара, которая принадлежит только ему. В пространстве молекула аммиака имеет форму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ирамиды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4520" y="1125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Вид связи. Форма молек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Получение аммиака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ммиак можно получить нагреванием смеси соли ‑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лорида аммо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идрокси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льция.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ри нагревании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меси происходит реакция образования соли,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аммиака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и во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2NH4Cl + Ca(OH)2 = 2NH3 ↑ + CaCl2 + 2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щательно разотрем ступкой смесь соли и основания и нагреем сме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аммиак - легкий газ)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52240" y="2349360"/>
            <a:ext cx="77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Газ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, бесцветный, с резким характерным запахом нашаты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9440" y="3429000"/>
            <a:ext cx="61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легче воздуха, очень хорошо растворим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55120" y="4437000"/>
            <a:ext cx="38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не горит на воздухе, 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ядовит.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1246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Физические свойства  амми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17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3600360" cy="3436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10520" y="-10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Химические свойства  аммиа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8160" y="4039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Из простых веществ аммиак реагирует с кислор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840" y="2046600"/>
            <a:ext cx="9047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Аммиак на воздухе не горит!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Но в чистом кислороде он сгорает, окисляясь до азота. Осторожно нагреем раствор аммиака и подадим в горелку кислород. Поднесем зажженную лучинку к отверстию горелки. Аммиак загорается и горит желтовато- зеленым пла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440" y="5157000"/>
            <a:ext cx="32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16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94440" y="83592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  <a:ea typeface="Times New Roman"/>
              </a:rPr>
              <a:t>Горение аммиака в кисл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74400" y="25920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Из сложных веществ аммиак реагир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491560"/>
            <a:ext cx="80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При 20 градусах один объем воды поглощает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97000"/>
            <a:ext cx="9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Аммиа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- чемпион среди газов по способности растворяться в во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95720" y="314172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700  объемов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аммиа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1080" y="73404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с водой: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4240" y="4220280"/>
            <a:ext cx="60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NH</a:t>
            </a:r>
            <a:r>
              <a:rPr b="1" lang="ru-RU" sz="1400" spc="-1" strike="noStrike">
                <a:solidFill>
                  <a:srgbClr val="9900ff"/>
                </a:solidFill>
                <a:latin typeface="Verdana"/>
              </a:rPr>
              <a:t>4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гидроксид амм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16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600720" cy="2635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51680" y="61956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с кислотами: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74400" y="18792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Из сложных веществ аммиак реагир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600" y="1195920"/>
            <a:ext cx="79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Взаимодействие аммиака с концентрированными кисло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91628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Аммиак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H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взаимодействует с концентрированными кислотами – 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соляной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HCl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азотной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HNO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серной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O</a:t>
            </a: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При добавлении кислоты к раствору аммиака появляется белый дым - выделяется соль 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" y="41490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H3  + HCl = NH4Cl↑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1240" y="458064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H3 + HNO3 = NH4 NO3↓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9600" y="45806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ff"/>
                </a:solidFill>
                <a:uFillTx/>
                <a:latin typeface="Verdana"/>
              </a:rPr>
              <a:t>нитрат аммония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4280" y="5083920"/>
            <a:ext cx="35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+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=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)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89160" y="50839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ff"/>
                </a:solidFill>
                <a:uFillTx/>
                <a:latin typeface="Verdana"/>
              </a:rPr>
              <a:t>сульфат амм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1880" y="41497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ff"/>
                </a:solidFill>
                <a:uFillTx/>
                <a:latin typeface="Verdana"/>
              </a:rPr>
              <a:t>хлорид амм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660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Аммиак взаимодействует со всеми растворимыми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7640" y="623736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кислотами с образованием солей амм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5992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04:19:47Z</dcterms:created>
  <dc:creator>ximija</dc:creator>
  <dc:description/>
  <dc:language>en-US</dc:language>
  <cp:lastModifiedBy>ximija</cp:lastModifiedBy>
  <dcterms:modified xsi:type="dcterms:W3CDTF">2009-04-09T05:26:14Z</dcterms:modified>
  <cp:revision>9</cp:revision>
  <dc:subject/>
  <dc:title>Слайд 1</dc:title>
</cp:coreProperties>
</file>